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B6E45-5344-4936-9497-1208D450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717B3-5E51-41BC-A91F-3BB607980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70B33-6DE3-4211-A677-99D98DE19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8D9D5-918D-4909-A29C-A73DF7C8D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66D3F-4F65-432D-96F0-432D5D5B4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69902-D55D-4D68-AD1C-D78E928D8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0D71F-982A-49FA-AD47-9C98D924A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CBF72-C103-4734-B890-801FA9084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03591-E0F5-416E-9C39-D555774A2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8FEA6-8C5D-4697-BDBE-A5BAFC7A3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92866-1E4D-4F4B-AAE3-96300C6A4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FB4E6-881F-4280-8199-5072ED43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859AA-B1AA-44AF-9C5C-E889B0125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42855-0148-40A4-8C6A-A21EBA6B3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F430C-458B-4667-A555-8D347C450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BCF12-BACD-4B20-BF0B-C667B298B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DB560-8740-4D5B-BDC3-FD24FA4BA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6F587-C060-4019-B39A-D9BB047CCA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052F9-4F17-42C3-B311-1ABE3C47D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D991E-BE3E-4D92-8E35-BDB576BB6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79F38-557A-445C-B280-5C597C1B0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EC8C8-FC97-4841-96A5-96FBB6A09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D5AA-B040-46F4-BC6C-940C4E402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6FAC9-0B4E-4C04-B0A9-F495BEAE2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969F3-ECDB-4BBB-B196-E08A8DEB0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22DDE-0FFA-448C-99AE-18FDE2F3C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703F2-0B5A-474D-BAA9-9AD83856A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17183-3EF1-43EF-A57A-498B0B929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5699AA-03B5-4325-80E4-F44FA9DF14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1B7BDE-7E59-44E5-B04C-B0C550DFCE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11AF1A-5CE0-45F8-892F-90ECA01CF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F33AB-5456-4A2E-B207-3E4FDCE3A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F8497-F1CD-4841-901E-C8349715A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529D-9A17-4FDA-9BB1-0F133F76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69412-E40F-468E-A3F3-93CA9313E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683E7B-30E3-493F-B312-1232865BD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73D47-0DE0-455C-AF6D-8C1CF6797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58229-D4D3-41BA-90CD-47A38AA31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78578-D7BD-4A93-9B0B-09BEABEDA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357CD4-57AC-4EF1-BD8E-42B8F8BF3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A526D-1F6F-4436-9A30-9DE7B1D67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6DD8D2-0F83-4BE9-B1F3-6CE84CBD68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EAD08F-904E-4F76-BDC0-27F7DAB603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131C4-4B2B-4DB7-A947-5E97D515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20893-1989-4413-A53C-99119710E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1E3E0-961F-47DA-A5DF-2E30F0C66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8AA1-C8A6-4F46-B69B-07A2DA0B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9FBE-3EE3-4AB9-8056-E6A4125EC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E613-A08B-4EAD-B272-735B5F4C65A4}"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F5FA-06B6-49AE-9A78-32F44D56890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A408-51AD-4B0D-81D6-85F736462ED9}"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AD8D-6F9F-4410-801F-CDCC3389962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3E4B-6A37-4061-84E4-46DAB6F90AD9}" type="datetime">
              <a:rPr b="0" lang="en-US" sz="1200" spc="-1" strike="noStrike">
                <a:solidFill>
                  <a:srgbClr val="d1eaee"/>
                </a:solidFill>
                <a:latin typeface="Arial"/>
              </a:rPr>
              <a:t>07/30/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E627-AD67-4FC8-A7F4-FDA89ADFBEB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10D4-72A4-4143-A162-0CD489A9D612}" type="datetime">
              <a:rPr b="0" lang="en-US" sz="1200" spc="-1" strike="noStrike">
                <a:solidFill>
                  <a:srgbClr val="045c75"/>
                </a:solidFill>
                <a:latin typeface="Arial"/>
              </a:rPr>
              <a:t>07/30/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E036-A560-4143-B6DC-DD7A0A8F0B3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46CA-9751-4543-B86B-E36C599277C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4946-7A6E-488A-88E4-0903464C0C9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7324-C8A3-424D-A380-D8CB006E1A7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403C-31B2-4739-8268-D57E82B1E0E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A0BC-50CC-4395-B302-24BF249288D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B606-70A4-43A9-872D-30AC324CC42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FC84-4792-4795-BEC1-7E0A79DA6DD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E9FE-8EF2-4ECD-8F4F-A9DD16E9F4B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7126-11A5-486D-BE7E-EA3F9D21F6C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7AF8-0B32-4B12-9089-A644C4B3873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BE7F-DFF2-487D-81DE-DB5011840C7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2B12-FD5B-4E40-972C-634B381ED18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8A10-AA4B-46A4-A148-AEF25DAA5E5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