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2B54D-4DF1-4ADC-A51E-B692D4F7B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7E2AF-BDEE-4AE2-84C8-63C1CBBA7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B14E2-E0BE-4C7E-A198-CE2399648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18A50-E9D3-475D-939B-F0DB9690A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BB6DF2-6982-4C51-AD2D-5B73FBC65F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834DF-4110-4023-9286-CC09D02B8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94C0E-4C08-454A-BFA1-BA409AECC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911DF-4312-47AD-851D-7404456F9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E1BD2-A030-4576-9CED-F78B9736D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2C32D-BC12-42C8-8E6D-30403694C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837B3-ADF2-4C36-B484-6F714D7C1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7B04E-AFB2-45F7-BE1D-9ECC4D72C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620A8-0352-4526-B6FC-485D55EF5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DE8FE-8778-4C20-8CFF-92B06A63D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BD078-D596-40C3-9ADD-1C66CB7A5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5F1D5C-416C-4BF3-A565-CAB8C8F65A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0707B-8C94-430F-997C-DE0B54ACD9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850341-7DDE-438B-A546-8A620FAC58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E5BED2-CB40-457C-A73A-87A73A2C2A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EE356B-8823-46B6-8497-A46B265B8A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7AC50E-7DA8-417E-BF12-6330234FDA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6D0D4C-37FC-4BF4-8A0A-4D466BB94A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F7B69-CB25-4983-BF8F-FE7810191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6902B3-059D-43EC-BC32-DBDA11FE35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ABA29E-3DF8-4603-AB7A-D82BB2BE3B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1D27E2-D60F-4C09-9996-FFA073E1E4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2AAF2A-02ED-4231-ADF5-E5754B4218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17D060-6866-4378-8AF6-92230FC4F3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FD57C9-45BE-4F09-B0C8-3D059844F2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4464DD-51FC-4CEC-9411-C977B210C5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FC0D4F-2DFC-4F10-ABE2-7304361939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C7A2AF-0FFD-4B39-B4B2-98EE2BE3A8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106F31-24D3-4656-AD50-F0C86D1205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97889-4F89-431A-AB38-E75EFFA66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C37F88-04FF-477D-A26F-A471E545B6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89AB6E-6002-4128-BB6C-16CC9E9EF5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BCF330-1095-44E9-AC11-B8429CDCBC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9105DB-1D31-445F-BCF3-8E0A7A4F02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3C9B9A-90E7-45F2-8B25-B1A09DBE29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41E46B-554B-481D-85C9-1320F94EFE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758999-7587-4457-AE47-EA55174985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706E0E-0A02-4F7A-B4CE-D7A8B11AC3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4F5F62-7F62-4C28-A501-7410CF4C45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4FE1C-65C9-425C-8091-9CA84AF6C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86957-9078-4EFF-AECA-5812DB4C3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2DDE9-D891-4891-8F52-3A27CC96E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9DCA3-86E2-400A-90F7-6D687E7CC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E3BFA-B97E-41E1-B5F1-4844817E6F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3ADC-8674-4690-8488-153E85459581}"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2067-A12E-400D-8D3A-B9FD76E5F6B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1F9E-8783-4923-A4B3-7B6FA5A1BB90}" type="datetime">
              <a:rPr b="0" lang="en-US" sz="1200" spc="-1" strike="noStrike">
                <a:solidFill>
                  <a:srgbClr val="d1eaee"/>
                </a:solidFill>
                <a:latin typeface="Arial"/>
              </a:rPr>
              <a:t>07/29/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D0F42-6999-4538-8E7C-FCDA0AE6944C}"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16D24-CC5B-4F20-87FA-0D4B77896B08}" type="datetime">
              <a:rPr b="0" lang="en-US" sz="1200" spc="-1" strike="noStrike">
                <a:solidFill>
                  <a:srgbClr val="d1eaee"/>
                </a:solidFill>
                <a:latin typeface="Arial"/>
              </a:rPr>
              <a:t>07/29/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F4AC-F50F-4DE3-A7EB-128C63526818}"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7E0B-8639-4022-B883-44155174B327}"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7986B-3968-4387-85B0-CF4EC163D4D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2B007-8D29-4555-9961-C0289B61220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A451D-A06C-41F5-B5D1-C733B142EBC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9980-714E-4FF9-A76F-96FBD524087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9F6D1-253F-47FD-BED5-ED1D69CD398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EB31A-CD55-4FAA-B742-D13312CFA63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8CFE5-F7F0-48DC-B0D0-B59B9B47236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8CE5B-FFB6-452E-A4F7-19618788643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ADDA-4A62-4DD6-ACF5-6CE06728723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09E1-22EA-47E3-9B55-2AC5B06C803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E6DA-3CD1-44C7-8CD8-880D0352BAF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ACE7-F749-4143-B064-BBE428F0411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3DD9-005A-43BB-BE19-47709565C59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7E02E-6306-4275-BD88-CF7CECD6304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